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wmf" ContentType="image/x-wmf"/>
  <Override PartName="/ppt/media/image4.jpeg" ContentType="image/jpeg"/>
  <Override PartName="/ppt/media/image5.jpeg" ContentType="image/jpeg"/>
  <Override PartName="/ppt/media/image6.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C507B-5701-406A-BB33-CC5E1C2FCE6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Long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Does lots of jobs – as well as makes proteins (about 10% of the DNA), it controls cell division, DNA replication, organises the chromatin within the chromosome!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529DC2-1471-40FD-AEC3-A910B95971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4038A-B90A-4C03-A25E-3EE209776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219986-2060-4EF6-A30E-C300482ABB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9A8EA6-C5F3-4DC2-8D9F-7BA35DD20A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0B5DF-901A-45C8-8FB3-93FC29422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AE140-10E0-4DBC-9080-58D42122B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B8BCB2-6233-4FEC-ABCA-0C7B892AF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5E1D5C-3F70-4E2A-8488-9BCEC471B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E7A84-3EDE-4ECE-A703-90A2F27A1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C2A3E-EA97-490B-9AE0-2856CB76C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EFE5B-6EF4-4145-8A3B-AA84FBE77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BADC0-43F3-44D4-930E-6305077A72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A61BB-E021-4730-9513-ACDEAC0F3F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cellsalive.com/"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Gene Express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77724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AS 90715  (3.3)  external (for Michael)</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US 8931 Describing Gene expression.</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US 8932  Gene - Gene Interac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Karyotypes </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repared photographs of chromosomes, used to identify pairs of chromoso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Human chromosomes in the nucleus are not normally visible in these shap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nual pg 62 (ol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Homologous Chromosomes</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cientists worked out that chromosomes come in pair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pair has the same genes on the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o you get two versions of each gene, one on the chromosome from the mother and one on the chromosome from the fath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genes are on matching locations on the pair of chromosomes so they are called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Arial"/>
              </a:rPr>
              <a:t>Homo</a:t>
            </a:r>
            <a:r>
              <a:rPr b="0" lang="en-NZ" sz="2800" spc="-1" strike="noStrike">
                <a:solidFill>
                  <a:srgbClr val="000000"/>
                </a:solidFill>
                <a:latin typeface="Arial"/>
              </a:rPr>
              <a:t> (same ) </a:t>
            </a:r>
            <a:r>
              <a:rPr b="1" lang="en-NZ" sz="2800" spc="-1" strike="noStrike">
                <a:solidFill>
                  <a:srgbClr val="000000"/>
                </a:solidFill>
                <a:latin typeface="Arial"/>
              </a:rPr>
              <a:t>logous</a:t>
            </a:r>
            <a:r>
              <a:rPr b="0" lang="en-NZ" sz="2800" spc="-1" strike="noStrike">
                <a:solidFill>
                  <a:srgbClr val="000000"/>
                </a:solidFill>
                <a:latin typeface="Arial"/>
              </a:rPr>
              <a:t> (location) </a:t>
            </a:r>
            <a:r>
              <a:rPr b="1" lang="en-NZ" sz="2800" spc="-1" strike="noStrike">
                <a:solidFill>
                  <a:srgbClr val="000000"/>
                </a:solidFill>
                <a:latin typeface="Arial"/>
              </a:rPr>
              <a:t>chromosomes</a:t>
            </a:r>
            <a:r>
              <a:rPr b="0" lang="en-NZ"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686800" cy="5068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ne breakthrough scientists made was to work out that one pair of chromosomes control the gender (the se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so that pair was called the sex chromosomes (XX and X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other 22 pairs are called the autosomal chromosome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sex chromosomes are not homologo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8" name="" descr=""/>
          <p:cNvPicPr/>
          <p:nvPr/>
        </p:nvPicPr>
        <p:blipFill>
          <a:blip r:embed="rId1"/>
          <a:stretch/>
        </p:blipFill>
        <p:spPr>
          <a:xfrm>
            <a:off x="826920" y="549360"/>
            <a:ext cx="6942240" cy="5830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Chromosomes and DNA</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What do we know about D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Deoxyribonucleic acid</a:t>
            </a:r>
            <a:endParaRPr b="0" lang="en-US" sz="4400" spc="-1" strike="noStrike">
              <a:solidFill>
                <a:srgbClr val="000000"/>
              </a:solidFill>
              <a:latin typeface="Arial"/>
            </a:endParaRPr>
          </a:p>
        </p:txBody>
      </p:sp>
      <p:sp>
        <p:nvSpPr>
          <p:cNvPr id="82" name="PlaceHolder 2"/>
          <p:cNvSpPr>
            <a:spLocks noGrp="1"/>
          </p:cNvSpPr>
          <p:nvPr>
            <p:ph/>
          </p:nvPr>
        </p:nvSpPr>
        <p:spPr>
          <a:xfrm>
            <a:off x="395280" y="162864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Nucleotide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A phosphat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A sugar (deoxyribose)</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A base   </a:t>
            </a:r>
            <a:endParaRPr b="0" lang="en-US" sz="2800" spc="-1" strike="noStrike">
              <a:solidFill>
                <a:srgbClr val="000000"/>
              </a:solidFill>
              <a:latin typeface="Arial"/>
            </a:endParaRPr>
          </a:p>
        </p:txBody>
      </p:sp>
      <p:sp>
        <p:nvSpPr>
          <p:cNvPr id="83" name=""/>
          <p:cNvSpPr/>
          <p:nvPr/>
        </p:nvSpPr>
        <p:spPr>
          <a:xfrm>
            <a:off x="1116000" y="2421000"/>
            <a:ext cx="43164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1116000" y="4508640"/>
            <a:ext cx="43344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1547640" y="2708280"/>
            <a:ext cx="648000" cy="64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V="1">
            <a:off x="1476360" y="4005360"/>
            <a:ext cx="720720" cy="5745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rot="1062000">
            <a:off x="2124000" y="3213000"/>
            <a:ext cx="720720" cy="792360"/>
          </a:xfrm>
          <a:prstGeom prst="pentagon">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flipV="1">
            <a:off x="2916360" y="3357720"/>
            <a:ext cx="934920" cy="287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rot="20563200">
            <a:off x="3635280" y="2637000"/>
            <a:ext cx="1008000" cy="649080"/>
          </a:xfrm>
          <a:prstGeom prst="pentagon">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6877080" y="4437000"/>
            <a:ext cx="36036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7164360" y="4941720"/>
            <a:ext cx="432000" cy="360360"/>
          </a:xfrm>
          <a:prstGeom prst="pentagon">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24360" y="5445000"/>
            <a:ext cx="746280" cy="554040"/>
          </a:xfrm>
          <a:prstGeom prst="pentagon">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denine, Thymine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ytosine, Guanin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Base Pairs match across DNA strands to make a double helix. (purines pair with pyrimidin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Kb stands for kilobases – thousands of bases to make one gene on a chromosom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6" name="" descr=""/>
          <p:cNvPicPr/>
          <p:nvPr/>
        </p:nvPicPr>
        <p:blipFill>
          <a:blip r:embed="rId1"/>
          <a:stretch/>
        </p:blipFill>
        <p:spPr>
          <a:xfrm>
            <a:off x="1235160" y="0"/>
            <a:ext cx="601488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Other nucleic acids</a:t>
            </a: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Nucleic acids are a family that have the same structure – a phosphate, sugar and base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RNA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has ribose instead of deoxyribose suga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ingle strand (not double)</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No T, has Uracil  (U) instea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omes in mRNA, tRNA.</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DNA comes in mitochondrial DNA as wel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Double stranded DNA</a:t>
            </a: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One strand of the DNA is called the template strand  (the one the mRNA reads to get the cod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other strand is called the coding strand ( in fact it is identical to the mRNA in the end).</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nual pg 68, 69.Nucleic acid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nual pg 76 Creating a DNA mod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Concepts to cover</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role of DNA in gene express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DNA Replication</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rotein synthesi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Hereditary metabolic disorder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llele Interactio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Gene gene interactio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Gene Environment interactio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utation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ontrol of gene expression (feedback mechanism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DNA</a:t>
            </a:r>
            <a:endParaRPr b="0" lang="en-US" sz="4400" spc="-1" strike="noStrike">
              <a:solidFill>
                <a:srgbClr val="000000"/>
              </a:solidFill>
              <a:latin typeface="Arial"/>
            </a:endParaRPr>
          </a:p>
        </p:txBody>
      </p:sp>
      <p:sp>
        <p:nvSpPr>
          <p:cNvPr id="102" name=""/>
          <p:cNvSpPr/>
          <p:nvPr/>
        </p:nvSpPr>
        <p:spPr>
          <a:xfrm>
            <a:off x="1763640" y="3573360"/>
            <a:ext cx="597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1908000" y="2924280"/>
            <a:ext cx="590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2843280" y="2924280"/>
            <a:ext cx="0" cy="64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4211640" y="2924280"/>
            <a:ext cx="0" cy="64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804000" y="2924280"/>
            <a:ext cx="0" cy="649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exon</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intron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coding region </a:t>
            </a:r>
            <a:r>
              <a:rPr b="0" lang="en-NZ" sz="2800" spc="-1" strike="noStrike">
                <a:solidFill>
                  <a:srgbClr val="000000"/>
                </a:solidFill>
                <a:latin typeface="Arial"/>
              </a:rPr>
              <a:t>	</a:t>
            </a:r>
            <a:r>
              <a:rPr b="0" lang="en-NZ" sz="2800" spc="-1" strike="noStrike">
                <a:solidFill>
                  <a:srgbClr val="000000"/>
                </a:solidFill>
                <a:latin typeface="Arial"/>
              </a:rPr>
              <a:t> non coding region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In the exons and introns are rows and rows of matched up nucleotides. Scientists currently working out the order of the bases to break the genome to identify what the DNA is do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Look at a genome for a bacterial viru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anual pg 70.</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genome is only one side of the DNA double helix bases lis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NOW THAT WE KNOW HOW DNA IS SHAPED</a:t>
            </a:r>
            <a:endParaRPr b="0" lang="en-US" sz="40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lvl="1" marL="743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3200" spc="-1" strike="noStrike">
                <a:solidFill>
                  <a:srgbClr val="000000"/>
                </a:solidFill>
                <a:latin typeface="Arial"/>
              </a:rPr>
              <a:t>WHAT DOES IT DO?</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t does two thing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1</a:t>
            </a:r>
            <a:r>
              <a:rPr b="0" lang="en-NZ" sz="2800" spc="-1" strike="noStrike">
                <a:solidFill>
                  <a:srgbClr val="000000"/>
                </a:solidFill>
                <a:latin typeface="Arial"/>
              </a:rPr>
              <a:t>	</a:t>
            </a:r>
            <a:r>
              <a:rPr b="0" lang="en-NZ" sz="2800" spc="-1" strike="noStrike">
                <a:solidFill>
                  <a:srgbClr val="000000"/>
                </a:solidFill>
                <a:latin typeface="Arial"/>
              </a:rPr>
              <a:t>Protein synthesi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	</a:t>
            </a:r>
            <a:r>
              <a:rPr b="0" lang="en-NZ" sz="2800" spc="-1" strike="noStrike">
                <a:solidFill>
                  <a:srgbClr val="000000"/>
                </a:solidFill>
                <a:latin typeface="Arial"/>
              </a:rPr>
              <a:t>(makes proteins so the cell function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2</a:t>
            </a:r>
            <a:r>
              <a:rPr b="0" lang="en-NZ" sz="2800" spc="-1" strike="noStrike">
                <a:solidFill>
                  <a:srgbClr val="000000"/>
                </a:solidFill>
                <a:latin typeface="Arial"/>
              </a:rPr>
              <a:t>	</a:t>
            </a:r>
            <a:r>
              <a:rPr b="0" lang="en-NZ" sz="2800" spc="-1" strike="noStrike">
                <a:solidFill>
                  <a:srgbClr val="000000"/>
                </a:solidFill>
                <a:latin typeface="Arial"/>
              </a:rPr>
              <a:t>DNA replication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makes more chromosomes when the cell is dividing)</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he basic unit of living organisms is the cell</a:t>
            </a:r>
            <a:endParaRPr b="0" lang="en-US" sz="4000" spc="-1" strike="noStrike">
              <a:solidFill>
                <a:srgbClr val="000000"/>
              </a:solidFill>
              <a:latin typeface="Arial"/>
            </a:endParaRPr>
          </a:p>
        </p:txBody>
      </p:sp>
      <p:pic>
        <p:nvPicPr>
          <p:cNvPr id="53" name="" descr=""/>
          <p:cNvPicPr/>
          <p:nvPr/>
        </p:nvPicPr>
        <p:blipFill>
          <a:blip r:embed="rId1"/>
          <a:stretch/>
        </p:blipFill>
        <p:spPr>
          <a:xfrm>
            <a:off x="0" y="1752480"/>
            <a:ext cx="4181400" cy="5105520"/>
          </a:xfrm>
          <a:prstGeom prst="rect">
            <a:avLst/>
          </a:prstGeom>
          <a:ln w="0">
            <a:noFill/>
          </a:ln>
        </p:spPr>
      </p:pic>
      <p:pic>
        <p:nvPicPr>
          <p:cNvPr id="54" name="" descr=""/>
          <p:cNvPicPr/>
          <p:nvPr/>
        </p:nvPicPr>
        <p:blipFill>
          <a:blip r:embed="rId2"/>
          <a:stretch/>
        </p:blipFill>
        <p:spPr>
          <a:xfrm>
            <a:off x="4210200" y="1701720"/>
            <a:ext cx="4933800" cy="5156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The Genetic Code</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Cell Structure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rokaryotic cells – simple single cell bacteria, Chromatin material (DNA) not in nucleus, easier to study.</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Eukaryotic cells – all cells with a true nucleus. Chromosomes in nucleu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u="sng">
                <a:solidFill>
                  <a:srgbClr val="009999"/>
                </a:solidFill>
                <a:uFillTx/>
                <a:latin typeface="Arial"/>
                <a:hlinkClick r:id="rId1"/>
              </a:rPr>
              <a:t>www.cellsalive.com</a:t>
            </a:r>
            <a:r>
              <a:rPr b="0" lang="en-NZ" sz="3200" spc="-1" strike="noStrike">
                <a:solidFill>
                  <a:srgbClr val="000000"/>
                </a:solidFill>
                <a:latin typeface="Arial"/>
              </a:rPr>
              <a:t> to learn about organel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000000"/>
                </a:solidFill>
                <a:latin typeface="Arial"/>
              </a:rPr>
              <a:t>Control the Cell</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Proteins are responsible fo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enzymes that catalyse all the reaction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structural parts (hair, muscl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carriers of oxygen (haemoglobi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he fighters of disease (white blood cel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Part of cell membranes (control movement in/out of cel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hormo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What controls the proteins, controls the cell.</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proteins organise every activity in the cell, so if you want to make a cell do or be something, you need to manage whatever it is that controls the protein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The genes in the chromosomes control the proteins. Every cell has the same genes but only the genes for the proteins being used by the cell are turned on in that cel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onnect genes to proteins –use Agresearch DNA presen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63" name=""/>
          <p:cNvGraphicFramePr/>
          <p:nvPr/>
        </p:nvGraphicFramePr>
        <p:xfrm>
          <a:off x="3276720" y="2997360"/>
          <a:ext cx="981000" cy="485640"/>
        </p:xfrm>
        <a:graphic>
          <a:graphicData uri="http://schemas.openxmlformats.org/presentationml/2006/ole">
            <p:oleObj r:id="rId1" spid="">
              <p:embed/>
              <p:pic>
                <p:nvPicPr>
                  <p:cNvPr id="64" name="" descr=""/>
                  <p:cNvPicPr/>
                  <p:nvPr/>
                </p:nvPicPr>
                <p:blipFill>
                  <a:blip r:embed="rId2"/>
                  <a:stretch/>
                </p:blipFill>
                <p:spPr>
                  <a:xfrm>
                    <a:off x="3276720" y="2997360"/>
                    <a:ext cx="981000" cy="48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Eukaryotic Chromosome Structure</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Refer to Manual pg 60 (old book)</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hromatin fibres, centromere.</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Each chromosome not usually visible (is unwound so genes can be read during normal cell activity)</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One chromatid, forms two chromatids (during cell division)</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Coil of chromatin wrapped around histones.</a:t>
            </a: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DNA double helix.</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5003280" y="0"/>
            <a:ext cx="3467160" cy="79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One double stranded DNA molecule</a:t>
            </a:r>
            <a:endParaRPr b="0" lang="en-US" sz="1800" spc="-1" strike="noStrike">
              <a:solidFill>
                <a:srgbClr val="000000"/>
              </a:solidFill>
              <a:latin typeface="Arial"/>
            </a:endParaRPr>
          </a:p>
        </p:txBody>
      </p:sp>
      <p:pic>
        <p:nvPicPr>
          <p:cNvPr id="68" name="" descr=""/>
          <p:cNvPicPr/>
          <p:nvPr/>
        </p:nvPicPr>
        <p:blipFill>
          <a:blip r:embed="rId1"/>
          <a:stretch/>
        </p:blipFill>
        <p:spPr>
          <a:xfrm>
            <a:off x="539640" y="260280"/>
            <a:ext cx="4883400" cy="6240600"/>
          </a:xfrm>
          <a:prstGeom prst="rect">
            <a:avLst/>
          </a:prstGeom>
          <a:ln w="0">
            <a:noFill/>
          </a:ln>
        </p:spPr>
      </p:pic>
      <p:sp>
        <p:nvSpPr>
          <p:cNvPr id="69" name=""/>
          <p:cNvSpPr/>
          <p:nvPr/>
        </p:nvSpPr>
        <p:spPr>
          <a:xfrm>
            <a:off x="5867280" y="19890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NA wrapped aroun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ball of histone proteins</a:t>
            </a:r>
            <a:endParaRPr b="0" lang="en-US" sz="1800" spc="-1" strike="noStrike">
              <a:solidFill>
                <a:srgbClr val="000000"/>
              </a:solidFill>
              <a:latin typeface="Arial"/>
            </a:endParaRPr>
          </a:p>
        </p:txBody>
      </p:sp>
      <p:sp>
        <p:nvSpPr>
          <p:cNvPr id="70" name=""/>
          <p:cNvSpPr/>
          <p:nvPr/>
        </p:nvSpPr>
        <p:spPr>
          <a:xfrm>
            <a:off x="4716360" y="6216480"/>
            <a:ext cx="2737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Arial"/>
              </a:rPr>
              <a:t>A chromosome is highly packaged DN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9T02:05:37Z</dcterms:created>
  <dc:creator>Ministry of Education</dc:creator>
  <dc:description/>
  <dc:language>en-US</dc:language>
  <cp:lastModifiedBy>Ministry of Education</cp:lastModifiedBy>
  <dcterms:modified xsi:type="dcterms:W3CDTF">2009-07-12T21:56:02Z</dcterms:modified>
  <cp:revision>18</cp:revision>
  <dc:subject/>
  <dc:title>Gene Expression</dc:title>
</cp:coreProperties>
</file>